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BCC-DC28-42E0-BE0D-A14F4A9D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24A-2165-4A2B-8527-BB43016E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D0D-D187-407C-97FC-E5EA70FE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EC6-C680-417E-9E47-E7102CD5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C0F-3948-451A-A9CF-F27A9B46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24A-E875-4588-99C4-85B487F5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2A8-E52A-4E3E-B3A3-ACF53CF0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0A8-BDFC-4949-8B56-E0CD9BAF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F09-DBBB-45E4-A7DA-9C9F901B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709-2382-40FC-A75E-D8741A6A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1B5-796D-4FED-B861-B98881B9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09C-08CB-4D97-8781-A8FDE35A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F598-566C-49D0-A4AE-B86F92E24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320" y="2066760"/>
            <a:ext cx="3581280" cy="204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0" b="3346"/>
          <a:stretch/>
        </p:blipFill>
        <p:spPr>
          <a:xfrm>
            <a:off x="3809880" y="2693880"/>
            <a:ext cx="53341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76920" y="952560"/>
            <a:ext cx="4246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831960"/>
            <a:ext cx="4184640" cy="519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14960" y="833400"/>
            <a:ext cx="33955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727280"/>
            <a:ext cx="4876920" cy="340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1231920"/>
            <a:ext cx="33084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674640"/>
            <a:ext cx="3741840" cy="5508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53200" y="687240"/>
            <a:ext cx="31813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267080" cy="3757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2119320"/>
            <a:ext cx="4572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57800" y="782640"/>
            <a:ext cx="3432240" cy="529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752400"/>
            <a:ext cx="42832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320" y="2743200"/>
            <a:ext cx="4800600" cy="137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6969" r="0" b="9409"/>
          <a:stretch/>
        </p:blipFill>
        <p:spPr>
          <a:xfrm>
            <a:off x="5029200" y="2679840"/>
            <a:ext cx="41148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563400"/>
            <a:ext cx="3789360" cy="5729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-6175" r="0" b="4123"/>
          <a:stretch/>
        </p:blipFill>
        <p:spPr>
          <a:xfrm>
            <a:off x="4572000" y="606600"/>
            <a:ext cx="43434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4240" y="552600"/>
            <a:ext cx="4182840" cy="5752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6097" t="4228" r="11565" b="9110"/>
          <a:stretch/>
        </p:blipFill>
        <p:spPr>
          <a:xfrm>
            <a:off x="4667400" y="533520"/>
            <a:ext cx="4400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1760" y="979560"/>
            <a:ext cx="4287960" cy="4897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4120" y="2138400"/>
            <a:ext cx="33526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320" y="1327320"/>
            <a:ext cx="4419360" cy="4201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40200" y="1285920"/>
            <a:ext cx="43038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320" y="1711440"/>
            <a:ext cx="4419360" cy="343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29200" y="747720"/>
            <a:ext cx="37879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1874880"/>
            <a:ext cx="3657600" cy="3108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1504800"/>
            <a:ext cx="24224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2903760" cy="609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19920" y="1809720"/>
            <a:ext cx="20746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000" y="914400"/>
            <a:ext cx="4483080" cy="563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86400" y="1701720"/>
            <a:ext cx="31939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218" t="1078" r="0" b="0"/>
          <a:stretch/>
        </p:blipFill>
        <p:spPr>
          <a:xfrm>
            <a:off x="76320" y="809640"/>
            <a:ext cx="4343400" cy="523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34080" y="800280"/>
            <a:ext cx="4309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519120"/>
            <a:ext cx="3809880" cy="581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3029" r="0" b="0"/>
          <a:stretch/>
        </p:blipFill>
        <p:spPr>
          <a:xfrm>
            <a:off x="4952880" y="36360"/>
            <a:ext cx="406584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320" y="1173240"/>
            <a:ext cx="4572000" cy="451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97520" y="1152360"/>
            <a:ext cx="414648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320" y="1733400"/>
            <a:ext cx="3144600" cy="3391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1379520"/>
            <a:ext cx="51814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320" y="2533680"/>
            <a:ext cx="4572000" cy="179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24280" y="2544840"/>
            <a:ext cx="441972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5:06:51Z</dcterms:created>
  <dc:creator>Emmanuel Petit</dc:creator>
  <dc:description/>
  <dc:language>en-US</dc:language>
  <cp:lastModifiedBy>asa29</cp:lastModifiedBy>
  <dcterms:modified xsi:type="dcterms:W3CDTF">2004-10-07T14:49:13Z</dcterms:modified>
  <cp:revision>35</cp:revision>
  <dc:subject/>
  <dc:title>PowerPoint Presentation</dc:title>
</cp:coreProperties>
</file>